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9DB-B2F2-4EF5-8966-CC3F50CF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138-9B97-4425-9C3E-A30C67E2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D4B-0933-4F72-8D2C-29A45548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78DD-B92C-40E9-A2ED-8796EEA7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526-F05D-4A74-B1BA-2C04D968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088-5A2E-49D4-ACBA-C6E71647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AD0-6BEB-436D-8E6A-52D64062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172-27E2-4A2B-94A1-58FD60B1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5531-E6AC-474F-8BD1-A846FAF7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108C-7C8A-42F2-87BC-FB8E39A3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6F6-D3CF-4D9A-B0A1-20EA4B96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B6CE-627D-469F-BB8C-73469EA7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D0E8-41D7-4271-94DF-004A67866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anfrance.fr/default.aspx?detail=1072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EPI </a:t>
            </a:r>
            <a:br>
              <a:rPr sz="4800"/>
            </a:b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ICARO S3">
            <a:hlinkClick r:id="rId2"/>
          </p:cNvPr>
          <p:cNvPicPr/>
          <p:nvPr/>
        </p:nvPicPr>
        <p:blipFill>
          <a:blip r:embed="rId3"/>
          <a:srcRect l="0" t="24247" r="0" b="0"/>
          <a:stretch/>
        </p:blipFill>
        <p:spPr>
          <a:xfrm>
            <a:off x="6705720" y="5079960"/>
            <a:ext cx="1944720" cy="147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rcRect l="3327" t="0" r="0" b="9728"/>
          <a:stretch/>
        </p:blipFill>
        <p:spPr>
          <a:xfrm>
            <a:off x="380880" y="304920"/>
            <a:ext cx="221004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61722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ff"/>
                </a:solidFill>
                <a:latin typeface="Arial"/>
              </a:rPr>
              <a:t>Réalisé par V. Leblanc – V. Genain – S. Brugge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763560" cy="16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800600" y="2743200"/>
            <a:ext cx="1684440" cy="898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429000" y="4495680"/>
            <a:ext cx="78732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181480" y="4495680"/>
            <a:ext cx="571680" cy="161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ACCESS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RECOMMANDATIONS D’ENTRE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36844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Contrôler visuellement le bon état de la chaussure avant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haque utili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Mettre au rebut les chaussures lorsque l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relief des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semelles est usé ou lorsqu’une détérioration important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apparaî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Tenir les chaussures en état de propre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faire sécher de façon naturelle lorsqu’elles sont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humides, ne pas les placer à proximité d’une source d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hal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Graisser ou cirer les chaussures afin de limiter l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dessèchement ou la formation de craque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7082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 milieu industriel génère des risques importants et variés qui nécessitent notamment une protection efficace des pi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2004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normes et directives européennes définissent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trois catégories de chaussures à usage professio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S RI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mécan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chocs, écrasement, perfo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chim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produits dangereux, corrosi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therm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froid, chaleur, intempér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électr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décharge électrique, électricité st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biolog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allergies, irrita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lié aux déplacements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gliss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8360" y="2362320"/>
          <a:ext cx="7665840" cy="3504960"/>
        </p:xfrm>
        <a:graphic>
          <a:graphicData uri="http://schemas.openxmlformats.org/drawingml/2006/table">
            <a:tbl>
              <a:tblPr/>
              <a:tblGrid>
                <a:gridCol w="2004840"/>
                <a:gridCol w="2286000"/>
                <a:gridCol w="3375000"/>
              </a:tblGrid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r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ype de chauss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Protection aux cho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trav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Aucu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prot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oyen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(choc de 100 joules</a:t>
                      </a:r>
                      <a:r>
                        <a:rPr b="0" lang="en-US" sz="2400" spc="-1" strike="noStrike" baseline="30000">
                          <a:solidFill>
                            <a:srgbClr val="3399ff"/>
                          </a:solidFill>
                          <a:latin typeface="Comic Sans MS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sécurit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mpor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(choc de 200 joules</a:t>
                      </a:r>
                      <a:r>
                        <a:rPr b="0" lang="en-US" sz="2400" spc="-1" strike="noStrike" baseline="30000">
                          <a:solidFill>
                            <a:srgbClr val="3399ff"/>
                          </a:solidFill>
                          <a:latin typeface="Comic Sans MS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57200" y="6165720"/>
            <a:ext cx="82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3399ff"/>
                </a:solidFill>
                <a:latin typeface="Comic Sans MS"/>
              </a:rPr>
              <a:t>*</a:t>
            </a:r>
            <a:r>
              <a:rPr b="0" lang="en-US" sz="1600" spc="-1" strike="noStrike">
                <a:solidFill>
                  <a:srgbClr val="3399ff"/>
                </a:solidFill>
                <a:latin typeface="Comic Sans MS"/>
              </a:rPr>
              <a:t> Joule : Unité élémentaire de mesure d’énergie, de travail et de quantité de chaleur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NOR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25905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Classe 1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Chaussures tout cuir sauf caoutchouc ou polym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Classe 2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Bottes tout caoutchouc entièrement vulcanisé ou tout polymère moul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MATÉRIAUX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0" t="0" r="0" b="22576"/>
          <a:stretch/>
        </p:blipFill>
        <p:spPr>
          <a:xfrm>
            <a:off x="1600200" y="2743200"/>
            <a:ext cx="6019920" cy="3657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ES PARTIES D’UNE CHAUSSURE DE SÉCU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EXIGENCES FONDA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28600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Elles portent sur toute ou partie de la chaussure :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tige, doublure, languette, semel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exigences fondamentales concern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la qualité et la performance de matériaux utilisé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résistance à la déchirure, à la flexion et à l ’abras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perméabilité à la vapeur d ’eau et aux hui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’adhésion tige-semel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propriété antidérapante de la sem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EXIGENCES ADDIT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054160" y="2092320"/>
            <a:ext cx="5033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219320" y="2549520"/>
            <a:ext cx="3193920" cy="1758960"/>
            <a:chOff x="1219320" y="2549520"/>
            <a:chExt cx="3193920" cy="175896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1219320" y="2549520"/>
              <a:ext cx="184644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2819520" y="3227400"/>
              <a:ext cx="1593720" cy="10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" descr=""/>
          <p:cNvPicPr/>
          <p:nvPr/>
        </p:nvPicPr>
        <p:blipFill>
          <a:blip r:embed="rId4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S MODÈ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715000" y="2286000"/>
            <a:ext cx="2477880" cy="1978200"/>
            <a:chOff x="5715000" y="2286000"/>
            <a:chExt cx="2477880" cy="1978200"/>
          </a:xfrm>
        </p:grpSpPr>
        <p:pic>
          <p:nvPicPr>
            <p:cNvPr id="81" name="" descr=""/>
            <p:cNvPicPr/>
            <p:nvPr/>
          </p:nvPicPr>
          <p:blipFill>
            <a:blip r:embed="rId5"/>
            <a:stretch/>
          </p:blipFill>
          <p:spPr>
            <a:xfrm>
              <a:off x="5715000" y="2286000"/>
              <a:ext cx="12589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6"/>
            <a:stretch/>
          </p:blipFill>
          <p:spPr>
            <a:xfrm>
              <a:off x="6933960" y="3005280"/>
              <a:ext cx="125892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4724280" y="4495680"/>
            <a:ext cx="2786040" cy="2097000"/>
            <a:chOff x="4724280" y="4495680"/>
            <a:chExt cx="2786040" cy="2097000"/>
          </a:xfrm>
        </p:grpSpPr>
        <p:pic>
          <p:nvPicPr>
            <p:cNvPr id="84" name="" descr=""/>
            <p:cNvPicPr/>
            <p:nvPr/>
          </p:nvPicPr>
          <p:blipFill>
            <a:blip r:embed="rId7"/>
            <a:stretch/>
          </p:blipFill>
          <p:spPr>
            <a:xfrm>
              <a:off x="4724280" y="5333760"/>
              <a:ext cx="18637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8"/>
            <a:stretch/>
          </p:blipFill>
          <p:spPr>
            <a:xfrm>
              <a:off x="5638680" y="4495680"/>
              <a:ext cx="187164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1066680" y="4114800"/>
            <a:ext cx="1967040" cy="2230560"/>
            <a:chOff x="1066680" y="4114800"/>
            <a:chExt cx="1967040" cy="2230560"/>
          </a:xfrm>
        </p:grpSpPr>
        <p:pic>
          <p:nvPicPr>
            <p:cNvPr id="87" name="" descr=""/>
            <p:cNvPicPr/>
            <p:nvPr/>
          </p:nvPicPr>
          <p:blipFill>
            <a:blip r:embed="rId9"/>
            <a:stretch/>
          </p:blipFill>
          <p:spPr>
            <a:xfrm>
              <a:off x="1066680" y="4114800"/>
              <a:ext cx="86688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>
              <a:off x="1828800" y="4724280"/>
              <a:ext cx="1204920" cy="162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2:06:23Z</dcterms:created>
  <dc:creator>lp la peupleraie</dc:creator>
  <dc:description/>
  <dc:language>en-US</dc:language>
  <cp:lastModifiedBy>Jean-Michel PETIT</cp:lastModifiedBy>
  <dcterms:modified xsi:type="dcterms:W3CDTF">2008-10-09T12:20:19Z</dcterms:modified>
  <cp:revision>34</cp:revision>
  <dc:subject/>
  <dc:title>LES EPI</dc:title>
</cp:coreProperties>
</file>